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D29A-BFE5-405B-ABA0-C562396B4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D5C0-741A-47EC-9A70-5FDD111E1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6B16-478C-43C5-8DF5-9BA435B10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DBF5-A969-48EB-8B10-4A86388B9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D9A7-431F-4092-A9AA-BAFB65B41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68BE-14C3-4638-B330-7828818C0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5939-2122-4092-9F19-84D8520A7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7190-80E5-4A6C-8D67-43779F91B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F25E-4C92-48BE-8DAB-43948F1B4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3BB5-87F3-497C-BEDD-F353DD3F6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1014-33A1-4AEA-B905-A73C05E8C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53D6-890B-4409-9F96-482409786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7886-1863-42E8-A109-090E5A4ED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0897-67AC-45C2-9ED6-9405D7C82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ECBD4EFD-8F81-45DA-A0E7-58318846A150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2611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5981760"/>
            <a:ext cx="9144000" cy="876240"/>
          </a:xfrm>
          <a:prstGeom prst="rect">
            <a:avLst/>
          </a:prstGeom>
          <a:solidFill>
            <a:srgbClr val="604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E015A5D0-2267-4DEB-9D24-F64D707E6D9F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73962452-8FA9-4315-885D-ECA437136139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89000" y="5419440"/>
            <a:ext cx="876600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5: Spreadsheet and Worksheet Basic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94 &amp; 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orting Worksheet Data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90720" y="1600200"/>
            <a:ext cx="7696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r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 arrange or group items in a particular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cend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-Z, 1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d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Z-A, 10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 Sor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using variables &amp; levels to customize what you need to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Ribbon, Sort Section, Ascending/Descending/Custom but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61E091A-28EB-4E20-9265-A57BE5B0BD4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6110280" y="2203560"/>
            <a:ext cx="2297160" cy="1652400"/>
          </a:xfrm>
          <a:prstGeom prst="rect">
            <a:avLst/>
          </a:prstGeom>
          <a:ln w="0">
            <a:noFill/>
          </a:ln>
        </p:spPr>
      </p:pic>
      <p:cxnSp>
        <p:nvCxnSpPr>
          <p:cNvPr id="209" name="Straight Arrow Connector 2"/>
          <p:cNvCxnSpPr/>
          <p:nvPr/>
        </p:nvCxnSpPr>
        <p:spPr>
          <a:xfrm flipH="1">
            <a:off x="5514480" y="2886120"/>
            <a:ext cx="1867680" cy="38880"/>
          </a:xfrm>
          <a:prstGeom prst="straightConnector1">
            <a:avLst/>
          </a:prstGeom>
          <a:ln w="5724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10" name="Straight Arrow Connector 7"/>
          <p:cNvCxnSpPr/>
          <p:nvPr/>
        </p:nvCxnSpPr>
        <p:spPr>
          <a:xfrm flipH="1">
            <a:off x="5695200" y="3286080"/>
            <a:ext cx="1686600" cy="124560"/>
          </a:xfrm>
          <a:prstGeom prst="straightConnector1">
            <a:avLst/>
          </a:prstGeom>
          <a:ln w="5724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orting Worksheet Data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20240" y="4624560"/>
            <a:ext cx="7696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 by adding/deleting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ter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 by selecting variable to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35619CA-FD2E-481A-B3D4-E17ADC1FE4B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279440" y="1473120"/>
            <a:ext cx="717876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ifferent Sorts of Same Data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by period and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by period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0EF9956-46D5-4048-A211-5A2647CB8252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328760" y="2133720"/>
            <a:ext cx="3286080" cy="3095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4973760" y="2763720"/>
            <a:ext cx="341604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195560" y="3279600"/>
            <a:ext cx="7381800" cy="34196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nsert Worksheet in </a:t>
            </a:r>
            <a:r>
              <a:rPr b="0" i="1" lang="en-US" sz="4000" spc="-1" strike="noStrike">
                <a:solidFill>
                  <a:srgbClr val="c23191"/>
                </a:solidFill>
                <a:latin typeface="Arial"/>
              </a:rPr>
              <a:t>Word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599840"/>
            <a:ext cx="769608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ord, click Table button in the Tables group on the Insert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372770C-5991-473E-9F2D-D2AF1965239D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diting, Moving, and 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pying Cell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29920" y="1496520"/>
            <a:ext cx="83487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iting Cell conten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everal way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into formula bar &amp; use Delete or Backspace to edit data, press 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cell and key new data (automatically replaces old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lick into Active Cell to edit directly in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ring Cell Contents &amp; Form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lear command on home ribbon to clear: contents, format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4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EB7B17E9-18F4-40FF-89A5-9B69DAC6EC33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3240" y="3932280"/>
            <a:ext cx="7763040" cy="2511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dit and Clear Cell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4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1D0E01D-5FDE-46A8-B4F9-1ACFDD5026D3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903240" y="1598760"/>
            <a:ext cx="78789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py and Move Data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77360" y="1496520"/>
            <a:ext cx="8388360" cy="29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t, Copy and Paste from the Clipboard group on the Home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l Hand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ndle on lower right corner. This will “fill in” or “copy” data into adjacent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4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296234D-865C-4F16-9F95-83ED3E1CBD7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639720" y="4218120"/>
            <a:ext cx="792468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ting Cells &amp; Column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90360" y="1600200"/>
            <a:ext cx="4840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tting Cells/Colum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Home Ribbon, Cells Group, Format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column/row width/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AE174D53-4AC9-4D44-A02B-FBBCF18FB787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rcRect l="67278" t="4299" r="13919" b="39821"/>
          <a:stretch/>
        </p:blipFill>
        <p:spPr>
          <a:xfrm>
            <a:off x="6143760" y="1619280"/>
            <a:ext cx="22939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hange Column Width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fy exact wid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Column Width from the Format option in the Cells group on the Home ta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to multiple colum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column heads then apply width 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CF1B3E7D-D279-4169-8C5E-90D65BF96A62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3313080" y="3108240"/>
            <a:ext cx="294336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hange Column Width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41240" y="1600200"/>
            <a:ext cx="8018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column width automatically to fit the longest item in the colum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lick the right column border (between the column let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use AutoFit Column Width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Column Width from the Format option in the Cells group on the Home rib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DAF23982-2970-449A-9A9F-5EDB0C2E82C1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hange Column Width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0D98E461-F19F-45DE-861D-9272858516E9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165320" y="3532320"/>
            <a:ext cx="4083120" cy="2814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5648400" y="3773520"/>
            <a:ext cx="2533680" cy="23320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542880" y="1541520"/>
            <a:ext cx="833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apply to multipl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column head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Ribbon, Cells Group,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same concept for Adjusting Row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nserting and Deleting 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Rows and Column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600200"/>
            <a:ext cx="7696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Ribbon, Cells Group, Insert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 the Delete button in the Cells group on the Home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D2F2C70D-FDB3-45C5-B0C9-C3B87FA6CDB7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278000" y="1585800"/>
            <a:ext cx="71406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9:35:53Z</dcterms:created>
  <dc:creator>Jean Bissell</dc:creator>
  <dc:description>Copyright 2006 South-Western/Thomson</dc:description>
  <dc:language>en-US</dc:language>
  <cp:lastModifiedBy>Lenessa Keehn</cp:lastModifiedBy>
  <dcterms:modified xsi:type="dcterms:W3CDTF">2011-03-29T20:27:47Z</dcterms:modified>
  <cp:revision>23</cp:revision>
  <dc:subject/>
  <dc:title>Slide 1</dc:title>
</cp:coreProperties>
</file>